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A08-8CC6-425B-B9FF-E50A04DA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94E-436A-433F-A9C1-4AFEE606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3F6BE-E0F2-4709-963E-88C8722B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2ECC0-60F8-431F-BFD6-0A8E0A6E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9BA2E-49DB-4159-A079-899C5743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F9661-B1CC-4695-88FA-CB2DB7FF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1ED1E-AC95-45B3-9139-85AF0C24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96B68-506B-486E-9759-A69F175B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C38D5-D323-41B0-BECF-86D21DF5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B1C08-03E2-4C87-BD99-40B6BF50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28296-4C50-4160-AE54-563FAD5E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DCC-BF4F-47F2-947B-930C5DAC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1326-E88E-46EE-9212-DE24A0FD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756F-8DDE-4F3B-A188-59046A12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01A0-40FE-4BA7-9FE4-E2B53738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08B3-60F1-4903-9776-F53A4B95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FDAA-EDCE-4D0E-BBB9-6073B9F7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9B99-6EA3-4FD7-9136-2114CEC4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8B1B-3D09-4AB6-8ABD-1C8AFD84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D20A-44DA-4994-A29C-610AAF05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FDF-6711-4EFE-9F24-454922EB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6ECD-96D5-464A-9112-3BD2F9E9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64DE-8F65-42E7-A8C7-655BD4FE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FC48-C55F-4433-BAF6-7A20DC85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3586-8D6A-4B01-9AD4-BB3EA08D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5237-0137-47E2-9B5B-0746DFB9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E0D6A-0567-42FD-A8EE-B1E80E4C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323FE-011C-4B35-B3E1-280F3036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B0F3E-7220-4018-B139-28F62701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E9B48-3539-4EAB-BA5B-AA4433FC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B7DBE-9E89-421C-BF73-7D3351F4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818-907B-44B3-B51A-AE742E4F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5BB4F-EBA3-45BC-8E6C-CE28B36E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84E07-12E4-4B61-88D1-E802135F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76FA4-95BE-4551-BC1A-8674D7D3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93C6C-9029-428F-A8A4-3DB5369F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14030-6E89-4946-8653-9C35FA38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41293-8B63-4231-9207-4C47A6C7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321DA-E415-44BF-8703-D79917E3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24A15-E76B-4854-8E77-E146D475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5B190-A2CE-4139-B3C5-FBBEF831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EF5E8-3C5C-4F4B-94AF-44CB5971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A98-8B83-437F-B118-8733F2A8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3E442-B9F1-448F-97B8-873C0CC6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501C4-1A59-4D6E-BC08-03676F80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95E4A-6B5F-444F-949F-4054BABC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C6F74-2FED-43BA-BD32-7F4CBA39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06D2C-2917-4442-A468-416DD082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2E9A6-B5AA-47F5-92C1-77F75E4B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2531A-2AB9-45FC-B669-F99E9DC2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1D8E7-3FEB-43F8-ACB1-CE41FAB1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C36BC-34E3-4581-9F00-76D4D442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8758C-882C-4564-B5B9-A346598B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771-BEFE-4EC9-9853-CB70B09B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DE100-35EF-415C-8A3E-9EA10530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87B6D-CACA-438C-84E5-44F5BC52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D7772-AD22-4514-B398-8F699BB7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0954B-FC2B-4B69-823A-B508519F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D6DC1-B182-4B18-89C1-F38B9AC7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B0D62-8BE7-4707-A6C8-E9DC9DD4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86048-5CF1-4ED7-9768-0FE4E84B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EBC2C-28CF-44BA-9C90-0FBA8D17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75FE1-79FA-4EFD-B7A5-8E91AEED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24465-3FCF-4C72-BCF0-EA16EDAE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2B02-AACE-45A6-86FA-76D42EF1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E07B2-7C8F-42F3-A425-FCE46323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243F3-A2D5-4220-9162-0B162C52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D2DCB-D3F0-4E49-8BF2-02972A0F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1FA9F-177D-4C96-B038-49DC7B34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88212-E047-40A9-A494-989DE2C2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A08CB-0732-49D2-A11B-4D0D5F63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52003-881F-47E5-861C-D498128D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18A9C-C674-4F03-AF53-8716DFD4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94677-74A3-44BF-A5B1-A21D805A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03733-9C9F-4562-A2F7-B6180718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5CE-F3D6-4AFE-8009-C6690BA2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62597-C77F-4E57-8C60-D1A273EC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9E4B8-F0BD-4B88-B4DC-C8808C43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3DD67-1F97-4410-9244-6CD584CF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865D2-0951-4800-85D6-692E167C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9A538-9F30-4CAA-9337-A2E338DA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67EEE-5AAE-4F6A-9FF4-46474982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05268-22BD-4F63-939F-714DA915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DCA46-B243-426C-9AD2-10CE279E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76F2B-76B1-4EAA-B960-519CDDAC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C3FA7-3D6D-4FCF-9BD9-60B8AF78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25E-F1E7-4ACC-9ADA-801C1AF0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E256B-D855-4A6A-9159-6C95CD0D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2BBAC-BEAD-4036-8A15-61114937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5029E-1EBF-4A65-A3C5-AA51281A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3DD1B-5BCB-4D7F-8E00-99D48191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60B92-748D-4290-B106-20502AFA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7C976-2270-42A5-8F99-E1F40BF0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B6CC8-275B-4C38-B1F7-A9A640D1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6C15F-2723-47D1-A7EE-6E58EE27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CD47E-974F-44A6-B379-355BDD38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23A8A-247D-4AD0-93DE-375D090F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55D-8F97-42B5-9DF3-D2523284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7CAAE-D450-4025-B38A-9D921528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578D5-82F7-4E0D-823E-EF41FD1F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B2C18-229B-4C09-9466-735065DF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8EEE4-22D8-42A9-B1ED-61FF07DE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A976E-4F1A-4C24-B2B1-0D080DEC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B8693-73DF-4D65-8FF9-5AC6B005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F96B0-116F-4C6E-961E-1A0AFBEB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0F4AC-9955-4EA1-AC7A-FB73800D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739B7-9442-4AD6-A648-9787B121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20916-1454-4066-B356-08D5EB16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D1BE-DD52-4F43-85D3-6154ED61932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C24C-AF97-4292-84EE-D1F5E7A2A35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B2AB-4EE5-4E8F-83A5-BC01D6DD81C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E832-A9DD-4CD6-BACC-E189997CA4D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784A-6C8F-4580-98D5-68A41B22C38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7D6C-A6FB-4D46-BCA5-AEB12753A67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8A01-7DDC-4E2F-8D9D-EEDB8F33CDD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174C-7965-402F-A798-05D6CFE70DD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B25A-2E2F-4785-93D8-D4419F35842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50920" y="40428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Georgia"/>
              </a:rPr>
              <a:t>«Победы      </a:t>
            </a:r>
            <a:r>
              <a:rPr b="1" i="1" lang="ru-RU" sz="7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7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7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7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7200" spc="-1" strike="noStrike">
                <a:solidFill>
                  <a:srgbClr val="ff0000"/>
                </a:solidFill>
                <a:latin typeface="Georgia"/>
              </a:rPr>
              <a:t>славные </a:t>
            </a:r>
            <a:r>
              <a:rPr b="1" i="1" lang="ru-RU" sz="7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7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7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7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7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7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ru-RU" sz="7200" spc="-1" strike="noStrike">
                <a:solidFill>
                  <a:srgbClr val="ff0000"/>
                </a:solidFill>
                <a:latin typeface="Georgia"/>
              </a:rPr>
              <a:t>страницы»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0" name="священная война.wma" descr=""/>
          <p:cNvPicPr/>
          <p:nvPr/>
        </p:nvPicPr>
        <p:blipFill>
          <a:blip r:embed="rId1"/>
          <a:stretch/>
        </p:blipFill>
        <p:spPr>
          <a:xfrm>
            <a:off x="8072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01" name="фрагмент2.wma" descr=""/>
          <p:cNvPicPr/>
          <p:nvPr/>
        </p:nvPicPr>
        <p:blipFill>
          <a:blip r:embed="rId2"/>
          <a:stretch/>
        </p:blipFill>
        <p:spPr>
          <a:xfrm>
            <a:off x="864396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4140360" y="407664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4a08"/>
                </a:solidFill>
                <a:latin typeface="Times New Roman"/>
                <a:ea typeface="Times New Roman"/>
              </a:rPr>
              <a:t>Классный час в 10-м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533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8533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3333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J:\ВОСПИТАТ.РАБОТА ПРОГРАММЫ И т.п\КЛАССНЫЙ ЧАС\КЛАССНЫЙ ЧАС НА КОНКУРС\A0000523.jpg"/>
          <p:cNvPicPr/>
          <p:nvPr/>
        </p:nvPicPr>
        <p:blipFill>
          <a:blip r:embed="rId1"/>
          <a:stretch/>
        </p:blipFill>
        <p:spPr>
          <a:xfrm>
            <a:off x="250920" y="260280"/>
            <a:ext cx="8558280" cy="54723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6" name="Прямоугольник 4" descr=""/>
          <p:cNvPicPr/>
          <p:nvPr/>
        </p:nvPicPr>
        <p:blipFill>
          <a:blip r:embed="rId2"/>
          <a:stretch/>
        </p:blipFill>
        <p:spPr>
          <a:xfrm>
            <a:off x="-1547640" y="262080"/>
            <a:ext cx="10026360" cy="259056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1" descr="http://about-war.narod.ru/images/kyrsk/1.jpg"/>
          <p:cNvPicPr/>
          <p:nvPr/>
        </p:nvPicPr>
        <p:blipFill>
          <a:blip r:embed="rId3"/>
          <a:stretch/>
        </p:blipFill>
        <p:spPr>
          <a:xfrm>
            <a:off x="5357880" y="2857680"/>
            <a:ext cx="36003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9" name="kursk.avi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evt="onNext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4621320" y="268200"/>
            <a:ext cx="4340160" cy="6534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17"/>
          <p:cNvPicPr/>
          <p:nvPr/>
        </p:nvPicPr>
        <p:blipFill>
          <a:blip r:embed="rId2"/>
          <a:stretch/>
        </p:blipFill>
        <p:spPr>
          <a:xfrm>
            <a:off x="250920" y="260280"/>
            <a:ext cx="4286160" cy="276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2" name="Рисунок 1" descr="foto3219[1]"/>
          <p:cNvPicPr/>
          <p:nvPr/>
        </p:nvPicPr>
        <p:blipFill>
          <a:blip r:embed="rId3"/>
          <a:srcRect l="0" t="0" r="15266" b="0"/>
          <a:stretch/>
        </p:blipFill>
        <p:spPr>
          <a:xfrm>
            <a:off x="179280" y="3141720"/>
            <a:ext cx="4321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404280"/>
            <a:ext cx="899172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3 августа 1943 года завершилась Курская битва. В 2013 году исполнится 70 лет со дня этой славной победы.  Эта битва была одним из самых грандиозных и кровопролитных в истории сражений. Только невозвратные потери советских войск составили 254 тыс. человек. В результате нашей победы в Курской битве завершился коренной перелом не только в Великой Отечественной, но и всей второй мировой войне в пользу стран антигитлеровской коалиции. Не случайно 23 августа стало одним из Дней воинской славы Росси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урской битве участвовали 38 наших земляков-уфалейцев. Увы, время берёт свое. По данным городского совета ветеранов, в 2009-м году в нашем округе проживало лишь 10 участников Курской битвы. На сегодняшний день в живых осталось только 6 ветеранов Курской битвы.  Это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силий Георгиевич Батин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бывший когда-то артиллеристом-наводчиком легендарной «катюши», наводившей на немцев настоящий ужас),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хаил Иванович Лемтюгин, Николай Сергеевич Мартюшов, Владимир Михайлович Пакулев, Хаяс Фатихович Фатихов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ександр Дмитриевич Шилков.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сожалению, удалось найти фотографию лишь одного из них – А.Д.Шилков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3" descr="11031849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6" name="Заголовок 1" descr=""/>
          <p:cNvPicPr/>
          <p:nvPr/>
        </p:nvPicPr>
        <p:blipFill>
          <a:blip r:embed="rId2"/>
          <a:stretch/>
        </p:blipFill>
        <p:spPr>
          <a:xfrm>
            <a:off x="1090440" y="146160"/>
            <a:ext cx="7894800" cy="1834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5"/>
          <p:cNvPicPr/>
          <p:nvPr/>
        </p:nvPicPr>
        <p:blipFill>
          <a:blip r:embed="rId3"/>
          <a:stretch/>
        </p:blipFill>
        <p:spPr>
          <a:xfrm>
            <a:off x="0" y="3067200"/>
            <a:ext cx="3408480" cy="2535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18"/>
          <p:cNvPicPr/>
          <p:nvPr/>
        </p:nvPicPr>
        <p:blipFill>
          <a:blip r:embed="rId4"/>
          <a:stretch/>
        </p:blipFill>
        <p:spPr>
          <a:xfrm>
            <a:off x="6345360" y="1700280"/>
            <a:ext cx="2798640" cy="3852720"/>
          </a:xfrm>
          <a:prstGeom prst="rect">
            <a:avLst/>
          </a:prstGeom>
          <a:ln w="0">
            <a:noFill/>
          </a:ln>
        </p:spPr>
      </p:pic>
      <p:pic>
        <p:nvPicPr>
          <p:cNvPr id="419" name="От героев былых времён...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30664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Рисунок 2" descr="0031.jpg"/>
          <p:cNvPicPr/>
          <p:nvPr/>
        </p:nvPicPr>
        <p:blipFill>
          <a:blip r:embed="rId1"/>
          <a:stretch/>
        </p:blipFill>
        <p:spPr>
          <a:xfrm>
            <a:off x="-169920" y="0"/>
            <a:ext cx="9313920" cy="7072200"/>
          </a:xfrm>
          <a:prstGeom prst="rect">
            <a:avLst/>
          </a:prstGeom>
          <a:ln w="0">
            <a:noFill/>
          </a:ln>
        </p:spPr>
      </p:pic>
      <p:pic>
        <p:nvPicPr>
          <p:cNvPr id="421" name="Прямоугольник 6" descr=""/>
          <p:cNvPicPr/>
          <p:nvPr/>
        </p:nvPicPr>
        <p:blipFill>
          <a:blip r:embed="rId2"/>
          <a:stretch/>
        </p:blipFill>
        <p:spPr>
          <a:xfrm>
            <a:off x="-212760" y="-6480"/>
            <a:ext cx="964260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поваМВ</cp:lastModifiedBy>
  <dcterms:modified xsi:type="dcterms:W3CDTF">2023-04-24T04:07:07Z</dcterms:modified>
  <cp:revision>30</cp:revision>
  <dc:subject/>
  <dc:title>Слайд 1</dc:title>
</cp:coreProperties>
</file>